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558-1C01-4BA2-9865-5067814A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09F-5442-44CE-B5A4-4E1BE6F1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DA4-CF71-4A37-AE26-32F46904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8C9-F1BB-430B-9571-40EB7A0C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DD7-5C30-4801-A165-9B3B9C6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072-84BA-48A7-AB3F-7AE467B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D38-8A09-42E0-9843-38FCB7DB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F37-FEE5-487C-92CA-0046FFF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AE8-ECDF-4683-AA13-8B27655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F0B-3AAB-4AEC-867F-BE82C72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F01-1DAE-41D6-A503-C1D1251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59C-CBB1-4193-B2B8-C251487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1652-4ACE-496B-BCF2-2F0792E8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History – 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ncipation Procla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lamation (a formal public statement ) issued by President Lincoln in September, 1862, effective January 1, 1863, freeing the slaves in all territory still at war with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Only Confederate slaves were fr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– give the Union a moral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Emancipation in 18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252" t="8620" r="0" b="4683"/>
          <a:stretch/>
        </p:blipFill>
        <p:spPr>
          <a:xfrm>
            <a:off x="533520" y="1444680"/>
            <a:ext cx="80769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152280"/>
            <a:ext cx="89913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42800"/>
                </a:solidFill>
                <a:latin typeface="Baskerville Old Face"/>
              </a:rPr>
              <a:t>The Southern View of Emancip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784" t="0" r="2784" b="0"/>
          <a:stretch/>
        </p:blipFill>
        <p:spPr>
          <a:xfrm>
            <a:off x="1143000" y="1079640"/>
            <a:ext cx="6934320" cy="524484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52280"/>
            <a:ext cx="83822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The Road to Gettysburg:  18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546200"/>
            <a:ext cx="4648320" cy="462600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330880" y="1295280"/>
            <a:ext cx="3508200" cy="510552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1853" t="4550" r="1853" b="5833"/>
          <a:stretch/>
        </p:blipFill>
        <p:spPr>
          <a:xfrm>
            <a:off x="609480" y="1981080"/>
            <a:ext cx="7925040" cy="365760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80880" y="395280"/>
            <a:ext cx="8382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42800"/>
                </a:solidFill>
                <a:latin typeface="Baskerville Old Face"/>
              </a:rPr>
              <a:t>Gettysburg Casual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ysburg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score and seven years ago our fathers brought forth on this continent, a new nation, conceived in Liberty, and dedicated to the proposition that all men are created equ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Introdu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ttysburg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are engaged in a great civil war, testing whether that nation, or any nation so conceived and so dedicated, can long endure. We are met on a great battle-field of that war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e of War (Survival of the UN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the Gettysburg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ather for us to be here dedicated to the great task remaining before us -- that from these honored dead we take increased devotion to that cause for which they gave the last full measure of devotion -- that we here highly resolve that these dead shall not have died in vain -- that this nation, under God, shall have a new birth of freedom -- and that government of the people, by the people, for the people, shall not perish from the earth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2800"/>
                </a:solidFill>
                <a:latin typeface="Baskerville Old Face"/>
              </a:rPr>
              <a:t>The Progress of War:  1861-18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23223" r="0" b="0"/>
          <a:stretch/>
        </p:blipFill>
        <p:spPr>
          <a:xfrm>
            <a:off x="609480" y="1219320"/>
            <a:ext cx="8001000" cy="503208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mattox – Lee surrenders 4/9/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assassinated – 4/14/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e thing that could have happened to the Sou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ivil War affect the United States and its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5228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Arial Narrow"/>
              </a:rPr>
              <a:t>Casualties on Both S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0" b="15948"/>
          <a:stretch/>
        </p:blipFill>
        <p:spPr>
          <a:xfrm>
            <a:off x="1219320" y="1143000"/>
            <a:ext cx="6858000" cy="534672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5228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Civil War Casualties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in Comparison to Other W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259000"/>
            <a:ext cx="8153280" cy="3836880"/>
          </a:xfrm>
          <a:prstGeom prst="rect">
            <a:avLst/>
          </a:prstGeom>
          <a:ln w="1260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rt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78040" y="1600200"/>
            <a:ext cx="37879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4240" y="24750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nfe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s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00200" y="28191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Charts and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two slides show important information about the North and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Civil War Pack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ree things that would help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ree things that would help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lav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litary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ide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14440"/>
            <a:ext cx="327672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Overview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of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Civil War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Strateg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“</a:t>
            </a: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Anaconda”</a:t>
            </a:r>
            <a:br>
              <a:rPr sz="4800"/>
            </a:br>
            <a:r>
              <a:rPr b="1" lang="en-US" sz="4800" spc="-1" strike="noStrike">
                <a:solidFill>
                  <a:srgbClr val="d42800"/>
                </a:solidFill>
                <a:latin typeface="Baskerville Old Face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789360" y="228600"/>
            <a:ext cx="49737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14:44Z</dcterms:created>
  <dc:creator> </dc:creator>
  <dc:description/>
  <dc:language>en-US</dc:language>
  <cp:lastModifiedBy>School District U46</cp:lastModifiedBy>
  <dcterms:modified xsi:type="dcterms:W3CDTF">2010-09-08T21:29:56Z</dcterms:modified>
  <cp:revision>13</cp:revision>
  <dc:subject/>
  <dc:title>The Civil War</dc:title>
</cp:coreProperties>
</file>